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95F-90AF-452B-B736-EAD9C83A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079-2954-4F54-83C5-9174ABA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744-C353-4C24-8AB4-D8EE8154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81F-4BCE-440A-9C27-A9EC4358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4BA3-EB46-468D-AC44-44A12F8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15DE-0904-433B-AFBB-12D673D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EFA5-C002-4FE9-ACAF-77C2DDFE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374-532F-4D5D-A714-9D23D64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20D-226C-4447-8E29-C45772D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A44-AA47-4F74-AF96-8968482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435B-CA6D-4E96-8893-262CCB29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444-D7CD-421C-B5C3-D8DAF3F8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582-F84E-4575-8BCA-5546E25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E51C-F7EC-4D2A-B19F-B517FF0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E66-AF14-49FF-8DCE-FCC10B9F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F31-6D0C-4D1B-A375-CB817C33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81F7-60CA-49EC-B621-15286AAD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87A-2307-4377-A0D7-2D7FBCF4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FCC-D436-4774-A0B5-E2325ECF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1E3-FA96-44D3-B26D-64912BD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DA9-220A-4AD4-A32B-7B79A5F1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EEE-AB2C-4FFD-BE9B-6690775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D0D-0F18-433A-9AF1-ACA316C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F90-B219-4155-BB5C-12092581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3AB1-F844-46A1-BA5D-C5513615D3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836-B3CF-4C8A-987B-7160AB8695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3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29.xml"/><Relationship Id="rId15" Type="http://schemas.openxmlformats.org/officeDocument/2006/relationships/slide" Target="slide34.xml"/><Relationship Id="rId16" Type="http://schemas.openxmlformats.org/officeDocument/2006/relationships/slide" Target="slide39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30.xml"/><Relationship Id="rId23" Type="http://schemas.openxmlformats.org/officeDocument/2006/relationships/slide" Target="slide35.xml"/><Relationship Id="rId24" Type="http://schemas.openxmlformats.org/officeDocument/2006/relationships/slide" Target="slide4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" Target="slide36.xml"/><Relationship Id="rId32" Type="http://schemas.openxmlformats.org/officeDocument/2006/relationships/slide" Target="slide41.xml"/><Relationship Id="rId33" Type="http://schemas.openxmlformats.org/officeDocument/2006/relationships/slide" Target="slide7.xml"/><Relationship Id="rId34" Type="http://schemas.openxmlformats.org/officeDocument/2006/relationships/slide" Target="slide12.xml"/><Relationship Id="rId35" Type="http://schemas.openxmlformats.org/officeDocument/2006/relationships/slide" Target="slide17.xml"/><Relationship Id="rId36" Type="http://schemas.openxmlformats.org/officeDocument/2006/relationships/slide" Target="slide22.xml"/><Relationship Id="rId37" Type="http://schemas.openxmlformats.org/officeDocument/2006/relationships/slide" Target="slide27.xml"/><Relationship Id="rId38" Type="http://schemas.openxmlformats.org/officeDocument/2006/relationships/slide" Target="slide32.xml"/><Relationship Id="rId39" Type="http://schemas.openxmlformats.org/officeDocument/2006/relationships/slide" Target="slide37.xml"/><Relationship Id="rId40" Type="http://schemas.openxmlformats.org/officeDocument/2006/relationships/slide" Target="slide42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natomy Jeopard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ex is awes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where blood goes from the right ventricle and what vessels it uses to get t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 of blood through the he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e moment it gets to the heart to the moment it leaves to the heart including all chambers and vessel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part of the heart that prevents blood in the right side from mixing with blood in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process by which gas exchange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main muscle that is used for 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movement (and when the diaphragm contracts and relaxes) of the diaphragm d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ha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air sacs where gas exchange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wo characteristics about the structure of the tissue lining the inside of the trachea that give it advantages for its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bands of tissue that connect bones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bands of tissue that connect bone to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ges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e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s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r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4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hree types of muscle and one example of where you would find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ree different functions of b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3 differences between skeletal muscle and smooth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following parts of a neu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used to RECEIV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used to SEN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part of the brain responsible for conscious thought, higher level thinking and decision 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of the brain responsible for balance and coord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of the brain responsible for unconscious control of breathing and heart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name for chemicals used to deliver information from one neuron to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filtering unit of the kid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2 functions of the kid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ins are broken down into ___________ by the enzyme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bs are broken down into ___________ by the enzyme 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very small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the function of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ree functions of the large intest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by which your body keeps its internal environment 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he following in order from smaller to big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 /tissue /cells /organ system /molec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ells that have hemoglobin and carry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ells that are used to fight inf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hormone causes the follow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ease in blood gluc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in blood gluc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ventricular wall is thicker in the heart and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muscle flap that covers trachea during swallow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 glucose is stored in the liver in the form of ____________ (name of molecu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2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wo types of digestion and an example of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retory organ involved in regulating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ther-40 (identify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you would find this tissu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C. Pseudostratified columnar epithelium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hree parts of the small intestine in order from beginning to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NUS-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ould you find this tissu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eased by t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rg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used to break down fats (answer must include substance and org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an example of a saturated fat and an unsaturated f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that involves the movement of food through the digestive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vessels that are thick and carry blood away from the heart are known a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wo veins that carry blood to the right at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1:29:04Z</dcterms:created>
  <dc:creator>jayoig</dc:creator>
  <dc:description/>
  <dc:language>en-US</dc:language>
  <cp:lastModifiedBy>jayoig</cp:lastModifiedBy>
  <dcterms:modified xsi:type="dcterms:W3CDTF">2010-03-01T15:32:13Z</dcterms:modified>
  <cp:revision>8</cp:revision>
  <dc:subject/>
  <dc:title>Anatomy Jeopardy</dc:title>
</cp:coreProperties>
</file>